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0B7-77CB-4109-8516-CD5CAE3D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9D2-7170-45F8-A061-7D788E6E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9D08-1DE8-4A41-A613-1486DEE3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E91-A480-41D2-8873-C7068734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C4F4-2EAB-4CFA-ABD2-1297CA88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478-D252-48B3-A860-CBCA5C9C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1D8-EEE7-4523-A0D7-271FB77D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F211-F1C4-4AA6-B7C6-941360D5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7EB-D01B-40F9-A7F2-E8830ADC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837-9BD4-457D-B905-5B273463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F7A-A7FC-4395-9E81-8D18236D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C439-6636-4BBD-8982-A7C475FB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9B3D-7D5A-40E0-BBAA-88FE63750863}" type="slidenum"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– DL Support</a:t>
            </a:r>
            <a:endParaRPr b="1" lang="en-US" sz="48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5602320" cy="157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llan Han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ML BenQ PHE AAL RD I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uesday, February 07,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DL support project organization 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DL working area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Workareas/package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ff"/>
                </a:solidFill>
                <a:latin typeface="Minion"/>
              </a:rPr>
              <a:t>Risk’s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9564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08600" y="166680"/>
            <a:ext cx="133956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08600" y="166680"/>
            <a:ext cx="133956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3988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3252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252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3556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5160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5160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51600" y="1014480"/>
            <a:ext cx="123840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51600" y="1014480"/>
            <a:ext cx="123840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3340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08600" y="1604880"/>
            <a:ext cx="422244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8600" y="1604880"/>
            <a:ext cx="422244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46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08600" y="2333520"/>
            <a:ext cx="422244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08600" y="2352600"/>
            <a:ext cx="422244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1412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3068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3068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9040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487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DL Workareas/packag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280" y="1573200"/>
            <a:ext cx="87854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82616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3-06 (B1)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A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3-HW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7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1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5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9/10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Risk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996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BMLaha</cp:lastModifiedBy>
  <dcterms:modified xsi:type="dcterms:W3CDTF">2006-02-07T17:05:42Z</dcterms:modified>
  <cp:revision>27</cp:revision>
  <dc:subject/>
  <dc:title>Jerry - DL</dc:title>
</cp:coreProperties>
</file>